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1DF-E2FA-4786-A059-2E278C7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EDF-15BC-4935-82EA-3F1012B6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61E-36D0-4C7D-9091-209F07AE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977-CBB3-4C30-83CE-D189AFA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579F-3112-4EA3-8F62-AC81DF7E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B08A6-0068-46EB-8A5C-965CD13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174C6-2156-45C8-9738-91BD8F54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3BA0-0CBD-489F-A47F-3007021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C63D-35E3-40AE-A3D5-E07C19DC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96F3A-7AAB-4A78-90BE-3C5EA7E9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B225-D18D-4546-BA72-E1B4C23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A8A-E42E-4D4C-82F7-A5EE9AD6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51C0A-4FCC-41F8-8F82-A7510E92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6DC4-27CD-424D-9EF3-7A10295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9FB0-9B23-4ED2-A984-5AB1759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E9D03-4480-4EC1-A543-EDFA0E42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5A8C9-0EDA-48D0-B41A-CD69027B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C4C4-CB3E-4CC1-BF9B-F6E744DD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8F50-BEB8-400C-9FA7-3E47C96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1EE6-594E-423F-9EF7-A3A1524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FAFD-C92C-475F-9C7F-5794044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F86E-12CB-455B-9BD8-2D3E68B3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CB0-686E-49EF-BBAB-EACB6223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FC88-F960-40E8-9A6D-4F82594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6E25-A727-479E-A097-C31BAD2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2979-E559-40D4-AA2F-514B06C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D431-2184-4F14-B31E-D890735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EB58-C298-484F-9636-99B873D4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8101-C043-4A81-9160-1162AD4E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7752-A70D-4AEE-9743-BDCEABB3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5834D-E5E5-4EE6-858C-2657DBE7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23BE1-957B-4851-9F6F-0EFA3F6F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A2809-814F-4995-8787-E5048E2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D9D-5EB8-41B0-A0A9-95C9BE4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C036C-F679-408D-B5A2-38674856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4FB56-EA8B-452D-AC83-90D25FCA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75A04-BFA1-4FBC-87E8-F1791F7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9AC59-6635-4A4C-9851-8195D37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A66DA-9C2C-457C-8EB4-9238114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4113C-A2D7-4D18-B373-EE93978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FD993-4215-4146-82BD-D5AFCC8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C827D-582F-4F2C-A0D5-ACEC29FA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2950C-BB9D-4AE9-8C3A-542DDB1A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B6E-BC86-40F1-8D4C-FF97DD0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4C8-8EB9-41F7-B2DB-4F85F2B0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E2A-325C-45B3-847C-7EC88C0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53D-6A9A-4428-89F0-C758143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E16-18FB-4039-8870-C2B99E5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A1FE-619D-4000-ABB4-6F5C180C844D}" type="slidenum">
              <a:rPr b="0" lang="it-IT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nettore 1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Connettore 1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e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0EC-11A5-4373-BFE9-57A4B52D5C51}" type="slidenum">
              <a:rPr b="0" lang="it-IT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ttore 1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389-ECDD-4A24-8B44-3536528EB07C}" type="slidenum">
              <a:rPr b="0" lang="it-IT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nettore 1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onnettore 1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86E-0282-4E28-AA53-E840B4C55818}" type="slidenum">
              <a:rPr b="0" lang="it-IT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1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9da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0920" y="2060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Arial"/>
                <a:ea typeface="Arial"/>
              </a:rPr>
              <a:t>Esperienza con fonti di luce artificia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legato del Percors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“Sai di cosa è capace la luce?”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M. Cherubini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Casella di testo 4"/>
          <p:cNvSpPr/>
          <p:nvPr/>
        </p:nvSpPr>
        <p:spPr>
          <a:xfrm>
            <a:off x="1886040" y="6442200"/>
            <a:ext cx="53719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Arial"/>
              </a:rPr>
              <a:t>© INDIRE 2014 - http://formazionedocentipon.indire.i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ffffff"/>
                </a:solidFill>
                <a:latin typeface="Arial"/>
              </a:rPr>
              <a:t>(Per le note di produzione si veda il colophon del percorso didattico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asella di testo 7"/>
          <p:cNvSpPr/>
          <p:nvPr/>
        </p:nvSpPr>
        <p:spPr>
          <a:xfrm>
            <a:off x="146160" y="66600"/>
            <a:ext cx="41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daa3f"/>
                </a:solidFill>
                <a:latin typeface="Arial"/>
              </a:rPr>
              <a:t>EDUCAZIONE SCIENTIF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9daa3f"/>
                </a:solidFill>
                <a:latin typeface="Arial"/>
              </a:rPr>
              <a:t>B-10-FSE-2010-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ttangolo 2"/>
          <p:cNvSpPr/>
          <p:nvPr/>
        </p:nvSpPr>
        <p:spPr>
          <a:xfrm>
            <a:off x="0" y="6354720"/>
            <a:ext cx="9144000" cy="77760"/>
          </a:xfrm>
          <a:prstGeom prst="rect">
            <a:avLst/>
          </a:prstGeom>
          <a:solidFill>
            <a:srgbClr val="c58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CasellaDiTesto 8"/>
          <p:cNvSpPr/>
          <p:nvPr/>
        </p:nvSpPr>
        <p:spPr>
          <a:xfrm>
            <a:off x="900000" y="5211720"/>
            <a:ext cx="73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hiediamo ai bambini di provare a trovare la posizione corretta per riuscire a vedere la luce della candela accesa che passa attraverso i fori sedendosi dalla parte opposta della fonte di luce. I due cartoncini dovranno essere distanti tra loro almeno cm 2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Z:\Progetti\PON SCIENZE\produzione percorsi_ UT\PRODUZIONE 2013_14\sceneggiature\riviste INDIRE\Energia e le sue trasformazioni\sai di cosa capace la luce\immagini\slide8.jpg"/>
          <p:cNvPicPr/>
          <p:nvPr/>
        </p:nvPicPr>
        <p:blipFill>
          <a:blip r:embed="rId1"/>
          <a:srcRect l="21455" t="0" r="0" b="0"/>
          <a:stretch/>
        </p:blipFill>
        <p:spPr>
          <a:xfrm>
            <a:off x="1568520" y="836640"/>
            <a:ext cx="6006960" cy="429264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CasellaDiTesto 8"/>
          <p:cNvSpPr/>
          <p:nvPr/>
        </p:nvSpPr>
        <p:spPr>
          <a:xfrm>
            <a:off x="900000" y="5211720"/>
            <a:ext cx="73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v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Ho guardato la fiamma attraverso i cartoncini forati. Mettendo i cartoncini allineati si vede la fiamma della cande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Z:\Progetti\PON SCIENZE\produzione percorsi_ UT\PRODUZIONE 2013_14\sceneggiature\riviste INDIRE\Energia e le sue trasformazioni\sai di cosa capace la luce\immagini\slide9.jpg"/>
          <p:cNvPicPr/>
          <p:nvPr/>
        </p:nvPicPr>
        <p:blipFill>
          <a:blip r:embed="rId1"/>
          <a:srcRect l="0" t="26126" r="0" b="0"/>
          <a:stretch/>
        </p:blipFill>
        <p:spPr>
          <a:xfrm>
            <a:off x="900000" y="1413000"/>
            <a:ext cx="7624800" cy="316836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CasellaDiTesto 8"/>
          <p:cNvSpPr/>
          <p:nvPr/>
        </p:nvSpPr>
        <p:spPr>
          <a:xfrm>
            <a:off x="1763640" y="5283360"/>
            <a:ext cx="561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opo l'esperienza pratica, dovranno rappresentare con un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hem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traiettoria della luce dalla fiamma della candela al loro occhio, attraverso i fori nei cartonci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Z:\Progetti\PON SCIENZE\produzione percorsi_ UT\PRODUZIONE 2013_14\sceneggiature\riviste INDIRE\Energia e le sue trasformazioni\sai di cosa capace la luce\immagini\slide10.jpg"/>
          <p:cNvPicPr/>
          <p:nvPr/>
        </p:nvPicPr>
        <p:blipFill>
          <a:blip r:embed="rId1"/>
          <a:stretch/>
        </p:blipFill>
        <p:spPr>
          <a:xfrm>
            <a:off x="1800360" y="836640"/>
            <a:ext cx="5543280" cy="440064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CasellaDiTesto 8"/>
          <p:cNvSpPr/>
          <p:nvPr/>
        </p:nvSpPr>
        <p:spPr>
          <a:xfrm>
            <a:off x="755640" y="5283360"/>
            <a:ext cx="76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ò essere richiamato il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stulato di geomet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econdo il quale, dati due punti, per essi passa una sola ret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Z:\Progetti\PON SCIENZE\produzione percorsi_ UT\PRODUZIONE 2013_14\sceneggiature\riviste INDIRE\Energia e le sue trasformazioni\sai di cosa capace la luce\immagini\slide11.jpg"/>
          <p:cNvPicPr/>
          <p:nvPr/>
        </p:nvPicPr>
        <p:blipFill>
          <a:blip r:embed="rId1"/>
          <a:stretch/>
        </p:blipFill>
        <p:spPr>
          <a:xfrm>
            <a:off x="762120" y="1733400"/>
            <a:ext cx="7619760" cy="339120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asellaDiTesto 6"/>
          <p:cNvSpPr/>
          <p:nvPr/>
        </p:nvSpPr>
        <p:spPr>
          <a:xfrm>
            <a:off x="866880" y="1068480"/>
            <a:ext cx="455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Materiale occorr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to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cand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pezzo di corrug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schermo bianco o m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 cartoncini rigidi con un foro al cent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uppo 13"/>
          <p:cNvGrpSpPr/>
          <p:nvPr/>
        </p:nvGrpSpPr>
        <p:grpSpPr>
          <a:xfrm>
            <a:off x="500040" y="3621240"/>
            <a:ext cx="8175600" cy="1463400"/>
            <a:chOff x="500040" y="3621240"/>
            <a:chExt cx="8175600" cy="1463400"/>
          </a:xfrm>
        </p:grpSpPr>
        <p:pic>
          <p:nvPicPr>
            <p:cNvPr id="177" name="Picture 6" descr="C:\Users\De-Santis\Downloads\foto_singole_torcia_e_corrugato-2014-07-03\foto singole torcia e corrugato\P1040012.JPG"/>
            <p:cNvPicPr/>
            <p:nvPr/>
          </p:nvPicPr>
          <p:blipFill>
            <a:blip r:embed="rId1"/>
            <a:stretch/>
          </p:blipFill>
          <p:spPr>
            <a:xfrm>
              <a:off x="500040" y="3621240"/>
              <a:ext cx="2559600" cy="1438920"/>
            </a:xfrm>
            <a:prstGeom prst="rect">
              <a:avLst/>
            </a:prstGeom>
            <a:ln w="22320">
              <a:solidFill>
                <a:srgbClr val="9daa3f"/>
              </a:solidFill>
              <a:miter/>
            </a:ln>
          </p:spPr>
        </p:pic>
        <p:pic>
          <p:nvPicPr>
            <p:cNvPr id="178" name="Picture 8" descr="C:\Users\De-Santis\Desktop\corrugato.jpg"/>
            <p:cNvPicPr/>
            <p:nvPr/>
          </p:nvPicPr>
          <p:blipFill>
            <a:blip r:embed="rId2"/>
            <a:stretch/>
          </p:blipFill>
          <p:spPr>
            <a:xfrm>
              <a:off x="4859640" y="3621240"/>
              <a:ext cx="1800000" cy="1463400"/>
            </a:xfrm>
            <a:prstGeom prst="rect">
              <a:avLst/>
            </a:prstGeom>
            <a:ln w="22320">
              <a:solidFill>
                <a:srgbClr val="9daa3f"/>
              </a:solidFill>
              <a:miter/>
            </a:ln>
          </p:spPr>
        </p:pic>
        <p:pic>
          <p:nvPicPr>
            <p:cNvPr id="179" name="Picture 10" descr="C:\Users\De-Santis\Downloads\foto_singole_candela_cartoncini-2014-07-03\foto singole candela cartoncini\cartoncini.jpg"/>
            <p:cNvPicPr/>
            <p:nvPr/>
          </p:nvPicPr>
          <p:blipFill>
            <a:blip r:embed="rId3"/>
            <a:stretch/>
          </p:blipFill>
          <p:spPr>
            <a:xfrm>
              <a:off x="6731640" y="3621240"/>
              <a:ext cx="1944000" cy="1463400"/>
            </a:xfrm>
            <a:prstGeom prst="rect">
              <a:avLst/>
            </a:prstGeom>
            <a:ln w="22320">
              <a:solidFill>
                <a:srgbClr val="9daa3f"/>
              </a:solidFill>
              <a:miter/>
            </a:ln>
          </p:spPr>
        </p:pic>
        <p:pic>
          <p:nvPicPr>
            <p:cNvPr id="180" name="Picture 11" descr="C:\Users\De-Santis\Downloads\foto_singole_candela_cartoncini-2014-07-03\foto singole candela cartoncini\candela.jpg"/>
            <p:cNvPicPr/>
            <p:nvPr/>
          </p:nvPicPr>
          <p:blipFill>
            <a:blip r:embed="rId4"/>
            <a:stretch/>
          </p:blipFill>
          <p:spPr>
            <a:xfrm>
              <a:off x="3123720" y="3621240"/>
              <a:ext cx="1663920" cy="1438920"/>
            </a:xfrm>
            <a:prstGeom prst="rect">
              <a:avLst/>
            </a:prstGeom>
            <a:ln w="22320">
              <a:solidFill>
                <a:srgbClr val="9daa3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asellaDiTesto 7"/>
          <p:cNvSpPr/>
          <p:nvPr/>
        </p:nvSpPr>
        <p:spPr>
          <a:xfrm>
            <a:off x="900000" y="4941720"/>
            <a:ext cx="727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una stanza buia, a piccoli gruppi di due o tre bambini, diamo a ciascun grupp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na torcia e un pezzo di corruga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(si tratta di un tubo flessibile, dal diametro di circa mm 20/25 che si può acquistare dal ferramenta) di circa m 1,20 e chiediamo di provare a proiettare la luce della torcia, posta ad una estremità del tubo, su uno schermo bianco (può essere il muro), in uscita dall'altra estremità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Z:\Progetti\PON SCIENZE\produzione percorsi_ UT\PRODUZIONE 2013_14\sceneggiature\riviste INDIRE\Energia e le sue trasformazioni\sai di cosa capace la luce\immagini\slide1.jpg"/>
          <p:cNvPicPr/>
          <p:nvPr/>
        </p:nvPicPr>
        <p:blipFill>
          <a:blip r:embed="rId1"/>
          <a:stretch/>
        </p:blipFill>
        <p:spPr>
          <a:xfrm>
            <a:off x="971640" y="716040"/>
            <a:ext cx="7129440" cy="4008240"/>
          </a:xfrm>
          <a:prstGeom prst="rect">
            <a:avLst/>
          </a:prstGeom>
          <a:ln w="1908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asellaDiTesto 8"/>
          <p:cNvSpPr/>
          <p:nvPr/>
        </p:nvSpPr>
        <p:spPr>
          <a:xfrm>
            <a:off x="826920" y="506736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difficoltà sta nel tendere bene il tubo, perché anche una piccola flessione di esso impedisce alla luce di uscire dall'estremità opposta a quella di ent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Z:\Progetti\PON SCIENZE\produzione percorsi_ UT\PRODUZIONE 2013_14\sceneggiature\riviste INDIRE\Energia e le sue trasformazioni\sai di cosa capace la luce\immagini\slide2.jpg"/>
          <p:cNvPicPr/>
          <p:nvPr/>
        </p:nvPicPr>
        <p:blipFill>
          <a:blip r:embed="rId1"/>
          <a:srcRect l="0" t="29323" r="7556" b="0"/>
          <a:stretch/>
        </p:blipFill>
        <p:spPr>
          <a:xfrm>
            <a:off x="804960" y="1341360"/>
            <a:ext cx="7534080" cy="324000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asellaDiTesto 8"/>
          <p:cNvSpPr/>
          <p:nvPr/>
        </p:nvSpPr>
        <p:spPr>
          <a:xfrm>
            <a:off x="900000" y="5138640"/>
            <a:ext cx="73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. Teres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La luce passando attraverso il tubo esce e, a seconda della forma del tubo, un filo di luce si proietta sul mur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9" descr="Z:\Progetti\PON SCIENZE\produzione percorsi_ UT\PRODUZIONE 2013_14\sceneggiature\riviste INDIRE\Energia e le sue trasformazioni\sai di cosa capace la luce\immagini\slide3.jpg"/>
          <p:cNvPicPr/>
          <p:nvPr/>
        </p:nvPicPr>
        <p:blipFill>
          <a:blip r:embed="rId1"/>
          <a:srcRect l="26920" t="0" r="0" b="0"/>
          <a:stretch/>
        </p:blipFill>
        <p:spPr>
          <a:xfrm>
            <a:off x="1835280" y="836640"/>
            <a:ext cx="5473440" cy="421308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asellaDiTesto 8"/>
          <p:cNvSpPr/>
          <p:nvPr/>
        </p:nvSpPr>
        <p:spPr>
          <a:xfrm>
            <a:off x="900000" y="5138640"/>
            <a:ext cx="73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atteo: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bbiamo preso una torcia e un tubo flessibile e spento la luce della stanza. Poi abbiamo disteso il tubo in modo tale che la luce passasse attraverso il tubo. Effettivamente la luce passa attraverso il tubo perché il tubo è disteso. Se il tubo fa una piccola piega la luce non pas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Z:\Progetti\PON SCIENZE\produzione percorsi_ UT\PRODUZIONE 2013_14\sceneggiature\riviste INDIRE\Energia e le sue trasformazioni\sai di cosa capace la luce\immagini\slide4.jpg"/>
          <p:cNvPicPr/>
          <p:nvPr/>
        </p:nvPicPr>
        <p:blipFill>
          <a:blip r:embed="rId1"/>
          <a:stretch/>
        </p:blipFill>
        <p:spPr>
          <a:xfrm>
            <a:off x="900000" y="826920"/>
            <a:ext cx="7567560" cy="425772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8"/>
          <p:cNvSpPr/>
          <p:nvPr/>
        </p:nvSpPr>
        <p:spPr>
          <a:xfrm>
            <a:off x="900000" y="5211720"/>
            <a:ext cx="73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meli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pegnete la luce della stanza e prendete il tubo flessibile. Poi collocate la torcia nel buco del tubo e puntate l’altra estremità verso il muro. La luce si vede nel muro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Un consiglio: tenete il tubo tirato e la luce appare sul mur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ttenzione, se non tiri il tubo la luce non pas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Z:\Progetti\PON SCIENZE\produzione percorsi_ UT\PRODUZIONE 2013_14\sceneggiature\riviste INDIRE\Energia e le sue trasformazioni\sai di cosa capace la luce\immagini\slide5.jpg"/>
          <p:cNvPicPr/>
          <p:nvPr/>
        </p:nvPicPr>
        <p:blipFill>
          <a:blip r:embed="rId1"/>
          <a:srcRect l="0" t="30441" r="0" b="0"/>
          <a:stretch/>
        </p:blipFill>
        <p:spPr>
          <a:xfrm>
            <a:off x="826920" y="1341360"/>
            <a:ext cx="7569360" cy="296064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CasellaDiTesto 8"/>
          <p:cNvSpPr/>
          <p:nvPr/>
        </p:nvSpPr>
        <p:spPr>
          <a:xfrm>
            <a:off x="900000" y="5211720"/>
            <a:ext cx="73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eguito dovranno scrivere delle istruzioni che permettano ad un loro compagno più piccolo di riprodurre l'esperienza appena fatta. Ciò servirà ai bambini come occasione per riflettere su quanto fatto e all'insegnante come verif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Z:\Progetti\PON SCIENZE\produzione percorsi_ UT\PRODUZIONE 2013_14\sceneggiature\riviste INDIRE\Energia e le sue trasformazioni\sai di cosa capace la luce\immagini\slide6.jpg"/>
          <p:cNvPicPr/>
          <p:nvPr/>
        </p:nvPicPr>
        <p:blipFill>
          <a:blip r:embed="rId1"/>
          <a:srcRect l="0" t="34283" r="0" b="0"/>
          <a:stretch/>
        </p:blipFill>
        <p:spPr>
          <a:xfrm>
            <a:off x="836640" y="1484280"/>
            <a:ext cx="7472160" cy="276372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asellaDiTesto 8"/>
          <p:cNvSpPr/>
          <p:nvPr/>
        </p:nvSpPr>
        <p:spPr>
          <a:xfrm>
            <a:off x="900000" y="5211720"/>
            <a:ext cx="73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ccessivamente, sempre in una stanza buia, a piccoli gruppi di tre/quattro bambini, diamo a ciascun gruppo un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candela accesa e due cartoncini rigid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 un piccolo foro al centro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Z:\Progetti\PON SCIENZE\produzione percorsi_ UT\PRODUZIONE 2013_14\sceneggiature\riviste INDIRE\Energia e le sue trasformazioni\sai di cosa capace la luce\immagini\slide7.jpg"/>
          <p:cNvPicPr/>
          <p:nvPr/>
        </p:nvPicPr>
        <p:blipFill>
          <a:blip r:embed="rId1"/>
          <a:stretch/>
        </p:blipFill>
        <p:spPr>
          <a:xfrm>
            <a:off x="900000" y="890640"/>
            <a:ext cx="7585200" cy="4267080"/>
          </a:xfrm>
          <a:prstGeom prst="rect">
            <a:avLst/>
          </a:prstGeom>
          <a:ln w="22320">
            <a:solidFill>
              <a:srgbClr val="9daa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9:42:25Z</dcterms:created>
  <dc:creator>Utente</dc:creator>
  <dc:description/>
  <dc:language>en-US</dc:language>
  <cp:lastModifiedBy>De-Santis</cp:lastModifiedBy>
  <dcterms:modified xsi:type="dcterms:W3CDTF">2015-08-12T14:37:08Z</dcterms:modified>
  <cp:revision>198</cp:revision>
  <dc:subject/>
  <dc:title>Diapositiva 1</dc:title>
</cp:coreProperties>
</file>